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A85-7DCD-4D71-B59D-248D93D6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1C9-77B7-4CE5-B7E6-9DF3B106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CBC-2BF9-4A4A-A2DA-48A3A62F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389-2B62-4C65-A67C-6C06C2E7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2D4-1E32-4984-ADE1-7B5B608B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15E-7877-4BD1-AD52-6029066C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3D6-8AA2-4543-9CCF-0577A8EF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7A5-58CE-447F-B919-66BE3308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0E7-4032-46A7-84F2-CEE6088B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225-AA3B-4930-B155-D03C400A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109-7CA6-4C40-B008-C5419A28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B41-0755-49A8-899C-562E713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1B0E-1B51-4814-8D3C-B37E150F0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fullissue.com/wp-content/uploads/Vladimir-Lenin.jpg&amp;imgrefurl=http://www.fullissue.com/index.php/vladimir-lenin-biography-1870%25E2%2580%25931924.html&amp;usg=__F0xk17O-KlyIVHwG2IdGRMGFv_Y=&amp;h=446&amp;w=320&amp;sz=24&amp;hl=en&amp;start=4&amp;zoom=1&amp;itbs=1&amp;tbnid=lqmKSGM_Z6UZeM:&amp;tbnh=127&amp;tbnw=91&amp;prev=/images%3Fq%3Dvladimir%2Blenin%26hl%3Den%26gbv%3D2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0000"/>
                </a:solidFill>
                <a:latin typeface="comic"/>
              </a:rPr>
              <a:t>Russia history 1918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By: S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     </a:t>
            </a: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Bi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      </a:t>
            </a: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f21"/>
            </a:gs>
            <a:gs pos="100000">
              <a:srgbClr val="6675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of soivet u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vember 1917 the russian goverrment was overt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Vladimir Lenin</a:t>
            </a: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dopted the government of</a:t>
            </a: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743280"/>
            <a:ext cx="2590560" cy="311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466992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1- grermans invade soivet Late 1940’s soivets gain control of Easter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2-1943- soivets prevent capture of Stalingr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5- soivets capture Berl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67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d war was from 1945-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competed against the U.S.A. for nuclear power and a man to the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32:43Z</dcterms:created>
  <dc:creator> </dc:creator>
  <dc:description/>
  <dc:language>en-US</dc:language>
  <cp:lastModifiedBy> </cp:lastModifiedBy>
  <dcterms:modified xsi:type="dcterms:W3CDTF">2010-12-14T17:21:55Z</dcterms:modified>
  <cp:revision>4</cp:revision>
  <dc:subject/>
  <dc:title>Russia history 1918- 2010</dc:title>
</cp:coreProperties>
</file>